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D0D2-A9F9-4E28-A789-7E92D960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1039-A413-4D25-BAC5-4DA08DA2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F31-46C2-41DE-8993-F2F88A39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3E7-EF11-44A2-85C1-CDDF78CF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777-D6C2-4BF1-96E7-3B782919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B33-0B5D-4F78-B351-5E42DE4D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C94A-09A3-44A0-B787-1F5C9FC6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6BF8-D111-4A5D-B087-DF100F02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9E64-3970-44B7-824F-667163B4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2E9-82ED-4690-99CD-52DADEA3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1DC6-B155-4370-9A45-418B5FF1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6EF-AFA1-492D-A6F0-2B425A5A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C05E-FBEE-45AD-98CC-E59D88673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6306"/>
          <a:stretch/>
        </p:blipFill>
        <p:spPr>
          <a:xfrm>
            <a:off x="304920" y="609480"/>
            <a:ext cx="84582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5880" y="2209680"/>
            <a:ext cx="13716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2209680"/>
            <a:ext cx="609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828800"/>
            <a:ext cx="609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2133720"/>
            <a:ext cx="762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 Grou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1752480"/>
            <a:ext cx="609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209680"/>
            <a:ext cx="838080" cy="55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1752480"/>
            <a:ext cx="685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1752480"/>
            <a:ext cx="685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77120" y="1447920"/>
            <a:ext cx="3045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14479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52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4479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15238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1447920"/>
            <a:ext cx="759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152388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5105520"/>
            <a:ext cx="16765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Color Scheme of Gra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5105520"/>
            <a:ext cx="13716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Font Style, Color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5181480"/>
            <a:ext cx="12189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334120"/>
            <a:ext cx="1143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om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0"/>
            <a:ext cx="11430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Graphics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0"/>
            <a:ext cx="15238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 through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85800" y="456840"/>
            <a:ext cx="228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219320" y="5638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581280" y="55623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334120" y="5409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400800" y="56386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990720" y="456840"/>
            <a:ext cx="12952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17:14Z</dcterms:created>
  <dc:creator>Rye Schools</dc:creator>
  <dc:description/>
  <dc:language>en-US</dc:language>
  <cp:lastModifiedBy>Rye Schools</cp:lastModifiedBy>
  <dcterms:modified xsi:type="dcterms:W3CDTF">2004-02-12T18:38:55Z</dcterms:modified>
  <cp:revision>4</cp:revision>
  <dc:subject/>
  <dc:title>Slide 1</dc:title>
</cp:coreProperties>
</file>